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2FC-2B94-4DE3-BFC5-43EC9F5A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7C8-22FF-48EB-9DD6-BE1E1676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5D1-D3E2-4CC0-AC70-326E5D20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7F5-62E5-478F-AC5E-81A9EAA1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E0F-6B92-42EA-B2D1-AABEE81A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0A4-F35A-47E2-9BC4-3205609F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05B-025F-43F9-A408-E328CA76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D1D-D01D-4140-BD89-F20FE535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06F-3355-4A19-984B-CE088D63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EC0-78D1-49F5-B1ED-C7FF5F58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D71-FFEF-4CFA-937A-CD315EB9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1FB-82D4-401B-A96C-8236F7F6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F27C-5B81-44ED-A6ED-2E507D42E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                Clase 7 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0 de dic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5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 ir a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Historieta 7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Vas a la consulta de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¿Te ve e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Te examina e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Te habla e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. Según el medico, ¿Qué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. ¿Te receta unas pastill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8. ¿Te despacha los medicamentos la farmacéut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s pronombres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e, te, nos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telling what happens to wh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ready learned the pronou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, te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 Do you remember with what verbs and/or expres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e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Me interesa el 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¿te interesan las matemátic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bur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cc"/>
                </a:solidFill>
                <a:latin typeface="Arial"/>
              </a:rPr>
              <a:t>-La clase de historia nos abur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cc"/>
                </a:solidFill>
                <a:latin typeface="Arial"/>
              </a:rPr>
              <a:t>-Me aburre el béisbol en la telev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, 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object pronouns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pronoun is placed righ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er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l medico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e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xam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b-La farmacéutica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e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vende la rec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-La profesora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nos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da un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pronouns tell us who is receiving the action of the verb. 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-The doctor examine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-The pharmacist sell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the pre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-The teacher give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n ex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it negative, you ad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ront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pronou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El estudiante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me escu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89913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- Make each sentence negative. Follow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is amigos me ven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Mis amigos no me 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rofesor nos hab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te doy los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ién me compre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l me escu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nos dicen la ver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Rewrite each statement as a question. Follow the model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 Hint: put the </a:t>
            </a:r>
            <a:r>
              <a:rPr b="1" i="1" lang="es-ES_tradnl" sz="3200" spc="-1" strike="noStrike">
                <a:solidFill>
                  <a:srgbClr val="cc00cc"/>
                </a:solidFill>
                <a:latin typeface="Arial"/>
              </a:rPr>
              <a:t>S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ubject </a:t>
            </a:r>
            <a:r>
              <a:rPr b="1" i="1" lang="es-ES_tradnl" sz="32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ronoun in front of the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los nos comprend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=   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¿Nos comprenden ell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s. me ayudan mañ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nos visitas en el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te doy la c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s me saludan en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nos escuch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6765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657600" y="20574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133720"/>
            <a:ext cx="2590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74320" y="2057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133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01000" y="1600200"/>
            <a:ext cx="762120" cy="762120"/>
          </a:xfrm>
          <a:prstGeom prst="ellipse">
            <a:avLst/>
          </a:prstGeom>
          <a:noFill/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48240" y="236232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S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4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7 (1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0:39:42Z</dcterms:created>
  <dc:creator>Helen Zumaeta</dc:creator>
  <dc:description/>
  <dc:language>en-US</dc:language>
  <cp:lastModifiedBy>Helen Zumaeta</cp:lastModifiedBy>
  <dcterms:modified xsi:type="dcterms:W3CDTF">2013-01-02T17:50:30Z</dcterms:modified>
  <cp:revision>13</cp:revision>
  <dc:subject/>
  <dc:title>Me llamo ________ Clase 7 im La fecha es el 13 de mayo del 2011</dc:title>
</cp:coreProperties>
</file>